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7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90792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2592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38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39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D6FD-CE3B-4AB4-ACD3-34A523B331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2592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131-3ABC-4555-8D58-B46BF9E2A0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F5C-A5EE-425E-A301-2C1F68D9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A2C-BA2C-46E2-A3F5-EFA74028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F6421-9E6C-4A7A-8658-13A09BAE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8A154-3EB0-47B3-9E9D-41742695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B8DED-94F9-4413-B5AA-7AD1EC72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D2237-DD09-40EE-9074-5D8373D3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31686-CE71-46EB-991F-AEC13BF0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A2388-2D3A-43F1-B22D-E023FCE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0D354-715B-4966-8E42-EB921419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5B7FE-53C8-403A-9420-83B17133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56DC2-117A-488A-AD8F-ADB0404D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415E0-F04F-4E33-8B8D-5E0809C2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08E-3A44-4453-B0BE-26A43318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11D20-1FFA-4E82-B858-4C3161B3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23D1D-1E64-40B6-8551-FD84FA83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2C6DF-F48B-40EB-AEE3-A107A9A2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B555E-8A90-4D97-A34D-773D66B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3EED6-5A5C-469D-900F-E47D86BC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709F6-C196-480F-A807-DC5E29C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82348-461D-4883-BA8B-73C1C337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E0A15-C116-44EA-8F63-4A9C4601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E2250-ABAA-4318-94E3-BB9CFED8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1D758-AD8E-422E-845D-C197B8C8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C43-DC30-45B1-B470-BE9B781F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896C5-A476-42AB-A9AE-5544E7B3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4BA73-D12B-4EA9-82B3-6859DA39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38D7F-44B5-4E60-A1BD-37A6C52E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24195-2F18-48BB-BBD5-BC640B6C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3C82B-395D-4F53-A1F0-3FEF7546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18E66-921F-4D7C-875A-5DC556D5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54FE0-8DD3-40EE-AEEF-62687D5B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AEF92-DD78-4622-9472-2ECAD6E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2D50A-29EE-443C-8F0C-57358F08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BB07F-B6CA-49BF-A20C-4B68E4D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36B4-AD68-4FBD-804D-703B4083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316D9-C1ED-485E-8225-5B38C31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DADA-ABDC-480D-9512-4A96AAB5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0ADB-9248-4B46-99EA-4A4B96D8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63065-5C4E-41D2-A6C5-1774D9ED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79744-3D6B-4C1E-B09A-7C7B08C3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2F283-EED5-4636-9F17-E411818D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5ED0C-04D6-4578-B8B4-87258C7F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15769-DEFD-4F2C-BA3F-9F00565D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DDB69-E6F9-4B5D-AB15-8847009D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1B826-A115-401D-9A27-6BB6247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FE39-6532-4EC5-850D-6901549A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1DE6C-2CE0-47DF-917B-E8887355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C89DD-DBF3-4AD9-AFAC-D26C4FC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53909-5FE4-4867-89D3-62BA9A2B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36646-521C-4F79-B386-1205FEAF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5B889-6D44-43D6-BA2B-9A03C528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A85B-8238-4752-82DC-404D7244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2D78-5C1C-476B-9946-BDBAA2A9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52B4-5B4F-4278-9D04-55E8A33C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13D7-5A61-461B-B134-98797073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896D-E69E-43C5-9920-2E03CEA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7CF-A2B2-4AEC-B180-939C0CA1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1471-3DD4-4EF8-8C0F-092FE01E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9CBD-A6B9-47C4-B826-540D0FAB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4FAA-E57D-4253-9615-38116310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38C7-26EB-4F75-9977-80D69E8C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A270-47E7-4DF7-AA1B-9FB3759A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C0E3-3E93-4FEE-A173-3A3BE9BA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D757-77E2-45E0-B1A5-F66971B6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265B-3F21-4D29-A7AB-D41B65A1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39A2-DCF1-4DEF-9718-B260239C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7891-0F5D-4793-AC96-70D1CFA8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26D-19AD-401B-ADDE-4359679E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B9C9C-D931-4F60-89BD-02761DD0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4084-7FE0-4971-83FC-D9A9681F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3158-8A4B-4791-B0D4-BED9D9C7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CC35-F34F-45C7-BECD-E9DAAECC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A6175-CCFE-4184-861E-C9217B1F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3E4C-C8CC-4A81-ACA6-FD75647C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03EB-F9A5-4F77-9899-0EC6F1E0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A2A27-A512-438A-8CD5-67E0994C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099C-68BB-48D9-9558-B7D6696C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FB0B-7188-41CA-938A-7C577AE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2A7-2B09-4176-8E08-EB50C930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7CF3-D69F-4251-8E82-7EC4C341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DF7D0-B2AE-4BB6-A997-0C8B7E38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23804-EC0C-4E75-9EC8-55A4D44B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47B9-D738-4457-A66B-6D2EF06D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E40D9-54F6-4FBA-89BB-B748182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2B0B-332E-432B-939C-6E4584F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58AD-C7C7-426F-87B2-0FBD4B5F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63DE-1A46-4FA8-AE3A-E177B7B9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0F311-8BD7-45FD-9394-35285BC3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3051-2E51-4B7F-B4AB-E8D80107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208-4F9F-4E6B-AD59-DF94551F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B3F4-D787-4827-83BE-F0C6D2EA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43BFD-45D6-4ACE-83BC-D8F8B5F7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86914-20B8-4A0A-9A53-B1CEBBA6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3685C-0A62-4910-8EE0-53AE4B3A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A9493-61A0-4E68-AB92-D0DEA906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703F-203C-48D9-8D31-90776D3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8CAFB-D69C-4E74-A2C9-E22A2D3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446F-5EB6-4942-8BD1-46F2EABD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B3BC-94D3-427F-9B5F-2D159AF3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DB7E8-8DEE-41EA-BD34-C487485A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5FC-4DF2-43F3-BEA3-EE90B452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73066-FCB9-490A-A797-35E77555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EE0FB-74F7-4A83-A61E-61B32D5B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92913-4DB0-43EE-AFDD-58E22007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E2080-7E6C-4F6F-A72A-3157572A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21D13-71B0-47AF-A755-252049DC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BED70-AFDA-4F95-ABE4-3A2632FC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E7B81-2E96-4B06-8984-D2D1C426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A73A-F04C-408A-B7C1-7663259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9D09E-58C0-4D18-9D04-39A8854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0B922-9E09-4900-A2C6-F0985AE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032-47D1-43FA-8D77-EA267F4A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DFFF-6949-4B9D-AB19-03405D75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FD85C-184C-4A8D-A89F-CE88DE3A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94CFF-2213-48DB-94FD-44DED37A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ADC1A-DCD2-4D7F-BB92-67C492B7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4CAE5-EEFA-466E-B06A-2968ACCB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90475-2610-4CEC-A638-C35C499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DD7D7-6994-4D3B-84F8-6B9BC1D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3E6EC-019E-4E45-BC0F-C651B98E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D1482-F865-4143-9D76-72532104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7503-5BE2-4BDE-9505-3F0D356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C3B-9810-4931-BF6C-EB0D737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F5006-6D8B-4E7F-9264-67A3011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4BFE0-7F11-43DE-8FE5-4D8B0281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2799E-F661-45D7-92D5-77A205E5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302C8-5AD0-4E56-90A8-678135AD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8F794-370D-4F68-89A5-DFCEB62D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DCAE4-09DD-4C7B-9E0C-31391011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2C73-0033-4534-B145-F62AEDBD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E7894-41AA-4608-AF8B-494EFC7F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EDDE6-C3A5-4545-A931-C8D8E337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4D197-357A-4896-B143-72DCD0A4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D7B-87B7-4501-99A6-AE5FEE7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4DF50-20A8-485D-9357-5AD78291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A2E47-CB8A-485D-9FB8-6A254C53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6BC88-90C9-49AC-86D4-731D0014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92F7A-B7FD-45C5-B24E-C71DA40D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2676-419A-4C7D-8416-2F1FBA12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CEDE4-09CC-476E-8446-2C668C54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39962-C310-4FCC-8B75-A51176F3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84E2A-ABC3-4D59-9535-7A1E2ACB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8BF42-B9CA-44D4-8224-B5F94438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58ED5-6A13-4847-A81D-1DACA5E7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4FB4-7ECE-4C96-BD31-011D051EAC5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A1B8-4934-4872-AAD3-84F02A9737F0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47EC-A79F-402D-BFA1-2EFF795CD08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029-A425-41C6-BEA3-AA41014B3BDC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56AE-92E5-460F-9EA5-FEB57F716AB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23C3-1593-4D36-9F15-12CE5D4F90C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F252-1935-481F-869E-DEBE5CB067CD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6C47-3059-492E-9136-3A3C8C7E8AC9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4022640"/>
            <a:ext cx="8643960" cy="25560"/>
            <a:chOff x="506520" y="4022640"/>
            <a:chExt cx="8643960" cy="255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402264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341D-D79B-478B-833D-9B9B5235A10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CCF0-B99C-48DE-800A-F983713D641E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2CD2-EEF9-495D-9E4C-4CE5C4909EA2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3E3A-A671-48D7-8823-739EA3AEFAE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FA47-CE37-4378-89D2-66DA185C6FB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B160-173B-4612-B2BF-86E8AAC5243E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DA3C-BD1A-4623-B387-6CE42FA664A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8DC4-6974-4ABD-903C-E32458B6E997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2C2F-FBD3-48E3-A6DA-A180F1115D67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9F35-5DF7-4D50-82E3-C25C5D9A017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4724-2968-4CCA-B324-289DA071547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Эффективное управление временем и ресурсами.                                                                                            </a:t>
            </a:r>
            <a:fld id="{39F9137F-2B68-439D-93B6-3F0AEE9CC95A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26BD-5BFE-4AAE-BC6C-23D67143EDC1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9E29-08EF-461D-9A52-8D4938E8C58E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4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A4B1-234F-4096-BE53-EBEC8392CB16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A528-BECE-41AE-9025-9CE6654BF544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РЕЗЕНТАЦИЯ ПОРТФЕЛЯ ПРОЕКТОВ</a:t>
            </a:r>
            <a:endParaRPr b="0" lang="en-US" sz="3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56760" y="242892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Лубянского сельского поселения муниципального района  «Чернянский район»  Белгородской области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57120" y="5445000"/>
            <a:ext cx="57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 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ова Валенти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34776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с. Лубяное - Первое, 202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ЛубянскоеСП-ПП-04"/>
          <p:cNvPicPr/>
          <p:nvPr/>
        </p:nvPicPr>
        <p:blipFill>
          <a:blip r:embed="rId1"/>
          <a:stretch/>
        </p:blipFill>
        <p:spPr>
          <a:xfrm>
            <a:off x="500040" y="357120"/>
            <a:ext cx="142884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ПИСАНИЕ ФУНКЦИОНАЛЬНОГО НАПРАВЛЕНИЯ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14200" y="2786040"/>
          <a:ext cx="8642520" cy="2478240"/>
        </p:xfrm>
        <a:graphic>
          <a:graphicData uri="http://schemas.openxmlformats.org/drawingml/2006/table">
            <a:tbl>
              <a:tblPr/>
              <a:tblGrid>
                <a:gridCol w="4464000"/>
                <a:gridCol w="1214640"/>
                <a:gridCol w="1214280"/>
                <a:gridCol w="1749600"/>
              </a:tblGrid>
              <a:tr h="7963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казатель (индикатор) портфеля про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начение показателя (индикатора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д. из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Ответственный за достижение показателя портфеля про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азо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целе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реализующихся бережливых проектов  в текущем году в админист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86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86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86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чарова  Валенти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Прямоугольник 5"/>
          <p:cNvSpPr/>
          <p:nvPr/>
        </p:nvSpPr>
        <p:spPr>
          <a:xfrm>
            <a:off x="250920" y="1125360"/>
            <a:ext cx="871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Формирование культуры бережлив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6"/>
          <p:cNvSpPr/>
          <p:nvPr/>
        </p:nvSpPr>
        <p:spPr>
          <a:xfrm>
            <a:off x="214200" y="1643040"/>
            <a:ext cx="85010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функционального направления: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Повышение результативности и эффективности деятельности  администрации, организованной в соответствии с принципами бережливого управл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139320"/>
            <a:ext cx="88423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ЕРЕЧЕНЬ ПРОЕКТОВ ФУНКЦИОНАЛЬНОГО НАПРАВЛЕНИЯ</a:t>
            </a:r>
            <a:endParaRPr b="0" lang="en-US" sz="27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28600" y="2133720"/>
          <a:ext cx="8686800" cy="4398840"/>
        </p:xfrm>
        <a:graphic>
          <a:graphicData uri="http://schemas.openxmlformats.org/drawingml/2006/table">
            <a:tbl>
              <a:tblPr/>
              <a:tblGrid>
                <a:gridCol w="1741320"/>
                <a:gridCol w="992520"/>
                <a:gridCol w="915840"/>
                <a:gridCol w="743040"/>
                <a:gridCol w="1093680"/>
                <a:gridCol w="1224000"/>
                <a:gridCol w="987480"/>
                <a:gridCol w="988920"/>
              </a:tblGrid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ч.мм.г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иници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ся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азработку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(индикатор) портфеля проектов, на который оказывает влияние 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сокий/ средний/ низ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8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ируем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птимизация  процесса подготовки и размещения информации на сайт администрации Лубянского сельского посел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6.2021-25.10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чарова Валенти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ноябрю 2021 года сократить время протекания процесса подготовки и размещения информации на сайт администрации Лубянского сельского по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реализующихся бережливых проектов  в текущем году в админист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2" name="Прямоугольник 9"/>
          <p:cNvSpPr/>
          <p:nvPr/>
        </p:nvSpPr>
        <p:spPr>
          <a:xfrm>
            <a:off x="264960" y="1125360"/>
            <a:ext cx="43624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ектов  -  1, в том числ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ируемых -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4200" y="429840"/>
            <a:ext cx="90583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1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РЕЗУЛЬТАТЫ И ЭФФЕКТЫ, КОТОРЫЕ ПЛАНИРУЕТСЯ  ДОСТИЧЬ</a:t>
            </a:r>
            <a:br>
              <a:rPr sz="1700"/>
            </a:br>
            <a:r>
              <a:rPr b="0" lang="ru-RU" sz="1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РАМКАХ  РЕАЛИЗАЦИИ НОВОГО ПРОЕКТА</a:t>
            </a:r>
            <a:br>
              <a:rPr sz="25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ПТИМИЗАЦИЯ  ПРОЦЕССА ПОДГОТОВКИ И РАЗМЕЩЕНИЯ ИНФОРМАЦИИ НА САЙТ АДМИНИСТРАЦИИ ЛУБЯНСКОГО СЕЛЬСКОГО ПОСЕЛЕНИЯ» </a:t>
            </a:r>
            <a:br>
              <a:rPr sz="1600"/>
            </a:br>
            <a:r>
              <a:rPr b="1" lang="ru-RU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ЦЕЛЬ ПРОЕКТА</a:t>
            </a:r>
            <a:r>
              <a:rPr b="0" lang="ru-RU" sz="1600" spc="-1" strike="noStrike">
                <a:solidFill>
                  <a:srgbClr val="464646"/>
                </a:solidFill>
                <a:latin typeface="Franklin Gothic Medium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ОЯБРЮ 2021 ГОДА СОКРАТИТЬ ВРЕМЯ ПРОТЕКАНИЯ ПРОЦЕССА </a:t>
            </a:r>
            <a:r>
              <a:rPr b="0" lang="ru-RU" sz="1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ДГОТОВКИ И РАЗМЕЩЕНИЯ ИНФОРМАЦИИ НА САЙТ АДМИНИСТРАЦИИ ЛУБЯНСКОГО СЕЛЬСКОГО ПОСЕЛЕН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24" name="Номер слайда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B754-CAA1-4C85-BB63-99E3F2F5198A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256680" y="150012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https://img2.freepng.ru/20180326/uke/kisspng-india-bulletin-board-manufacturing-cork-dry-erase-board-5ab8e812ad7054.6189913815220674747104.jpg"/>
          <p:cNvPicPr/>
          <p:nvPr/>
        </p:nvPicPr>
        <p:blipFill>
          <a:blip r:embed="rId1"/>
          <a:stretch/>
        </p:blipFill>
        <p:spPr>
          <a:xfrm>
            <a:off x="285840" y="2363760"/>
            <a:ext cx="8215200" cy="4280040"/>
          </a:xfrm>
          <a:prstGeom prst="rect">
            <a:avLst/>
          </a:prstGeom>
          <a:ln w="0">
            <a:noFill/>
          </a:ln>
        </p:spPr>
      </p:pic>
      <p:sp>
        <p:nvSpPr>
          <p:cNvPr id="627" name="TextBox 7"/>
          <p:cNvSpPr/>
          <p:nvPr/>
        </p:nvSpPr>
        <p:spPr>
          <a:xfrm>
            <a:off x="714240" y="2643120"/>
            <a:ext cx="2895840" cy="1003320"/>
          </a:xfrm>
          <a:prstGeom prst="rect">
            <a:avLst/>
          </a:prstGeom>
          <a:solidFill>
            <a:srgbClr val="d5a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ует единый стиль оформления  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9"/>
          <p:cNvSpPr/>
          <p:nvPr/>
        </p:nvSpPr>
        <p:spPr>
          <a:xfrm>
            <a:off x="571680" y="4143240"/>
            <a:ext cx="3071520" cy="583560"/>
          </a:xfrm>
          <a:prstGeom prst="rect">
            <a:avLst/>
          </a:prstGeom>
          <a:solidFill>
            <a:srgbClr val="af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 сайта одним специалис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0"/>
          <p:cNvSpPr/>
          <p:nvPr/>
        </p:nvSpPr>
        <p:spPr>
          <a:xfrm>
            <a:off x="3861000" y="4429080"/>
            <a:ext cx="2656800" cy="1041480"/>
          </a:xfrm>
          <a:prstGeom prst="rect">
            <a:avLst/>
          </a:prstGeom>
          <a:solidFill>
            <a:srgbClr val="d4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е потери при загру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ов большим объе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2"/>
          <p:cNvSpPr/>
          <p:nvPr/>
        </p:nvSpPr>
        <p:spPr>
          <a:xfrm>
            <a:off x="3870720" y="2714760"/>
            <a:ext cx="2550600" cy="1003320"/>
          </a:xfrm>
          <a:prstGeom prst="rect">
            <a:avLst/>
          </a:prstGeom>
          <a:solidFill>
            <a:srgbClr val="f3a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на рабочем месте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 специали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Блок-схема: узел 17"/>
          <p:cNvSpPr/>
          <p:nvPr/>
        </p:nvSpPr>
        <p:spPr>
          <a:xfrm>
            <a:off x="3000240" y="321480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Блок-схема: узел 18"/>
          <p:cNvSpPr/>
          <p:nvPr/>
        </p:nvSpPr>
        <p:spPr>
          <a:xfrm>
            <a:off x="5857920" y="328608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Блок-схема: узел 19"/>
          <p:cNvSpPr/>
          <p:nvPr/>
        </p:nvSpPr>
        <p:spPr>
          <a:xfrm>
            <a:off x="3143160" y="442908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Блок-схема: узел 20"/>
          <p:cNvSpPr/>
          <p:nvPr/>
        </p:nvSpPr>
        <p:spPr>
          <a:xfrm>
            <a:off x="5929200" y="507204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642960" y="5072040"/>
            <a:ext cx="2857320" cy="1248120"/>
          </a:xfrm>
          <a:prstGeom prst="rect">
            <a:avLst/>
          </a:prstGeom>
          <a:solidFill>
            <a:srgbClr val="d5a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ый уровень владения персонала приемам сжатия текста, изобра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Блок-схема: узел 14"/>
          <p:cNvSpPr/>
          <p:nvPr/>
        </p:nvSpPr>
        <p:spPr>
          <a:xfrm>
            <a:off x="3214800" y="592920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5"/>
          <p:cNvSpPr/>
          <p:nvPr/>
        </p:nvSpPr>
        <p:spPr>
          <a:xfrm>
            <a:off x="2571840" y="17859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6"/>
          <p:cNvSpPr/>
          <p:nvPr/>
        </p:nvSpPr>
        <p:spPr>
          <a:xfrm>
            <a:off x="4000680" y="5572080"/>
            <a:ext cx="3071520" cy="828360"/>
          </a:xfrm>
          <a:prstGeom prst="rect">
            <a:avLst/>
          </a:prstGeom>
          <a:solidFill>
            <a:srgbClr val="af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навыков  работы с текстовым   редак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Блок-схема: узел 21"/>
          <p:cNvSpPr/>
          <p:nvPr/>
        </p:nvSpPr>
        <p:spPr>
          <a:xfrm>
            <a:off x="6357960" y="592920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2"/>
          <p:cNvSpPr/>
          <p:nvPr/>
        </p:nvSpPr>
        <p:spPr>
          <a:xfrm>
            <a:off x="7012440" y="1785960"/>
            <a:ext cx="187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про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6.2021-25.10.20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14200" y="429840"/>
            <a:ext cx="90583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1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РЕЗУЛЬТАТЫ И ЭФФЕКТЫ, КОТОРЫЕ ПЛАНИРУЕТСЯ  ДОСТИЧЬ</a:t>
            </a:r>
            <a:br>
              <a:rPr sz="1700"/>
            </a:br>
            <a:r>
              <a:rPr b="0" lang="ru-RU" sz="1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РАМКАХ  РЕАЛИЗАЦИИ НОВОГО ПРОЕКТА</a:t>
            </a:r>
            <a:br>
              <a:rPr sz="2500"/>
            </a:br>
            <a:r>
              <a:rPr b="1" lang="ru-RU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ТИМИЗАЦИЯ  ПРОЦЕССА ПОДГОТОВКИ И РАЗМЕЩЕНИЯ ИНФОРМАЦИИ НА САЙТ АДМИНИСТРАЦИИ ЛУБЯНСКОГО СЕЛЬСКОГО ПОСЕЛЕНИЯ» </a:t>
            </a:r>
            <a:br>
              <a:rPr sz="1600"/>
            </a:br>
            <a:r>
              <a:rPr b="1" lang="ru-RU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4328-74F2-4592-86C2-8262F2690BC4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256680" y="150012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6" descr="https://img2.freepng.ru/20180326/uke/kisspng-india-bulletin-board-manufacturing-cork-dry-erase-board-5ab8e812ad7054.6189913815220674747104.jpg"/>
          <p:cNvPicPr/>
          <p:nvPr/>
        </p:nvPicPr>
        <p:blipFill>
          <a:blip r:embed="rId1"/>
          <a:stretch/>
        </p:blipFill>
        <p:spPr>
          <a:xfrm>
            <a:off x="285840" y="2289240"/>
            <a:ext cx="8358120" cy="4354560"/>
          </a:xfrm>
          <a:prstGeom prst="rect">
            <a:avLst/>
          </a:prstGeom>
          <a:ln w="0">
            <a:noFill/>
          </a:ln>
        </p:spPr>
      </p:pic>
      <p:sp>
        <p:nvSpPr>
          <p:cNvPr id="645" name="TextBox 7"/>
          <p:cNvSpPr/>
          <p:nvPr/>
        </p:nvSpPr>
        <p:spPr>
          <a:xfrm>
            <a:off x="714240" y="2643120"/>
            <a:ext cx="2895840" cy="1003320"/>
          </a:xfrm>
          <a:prstGeom prst="rect">
            <a:avLst/>
          </a:prstGeom>
          <a:solidFill>
            <a:srgbClr val="d5a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  шаблон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информации на сай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9"/>
          <p:cNvSpPr/>
          <p:nvPr/>
        </p:nvSpPr>
        <p:spPr>
          <a:xfrm>
            <a:off x="571680" y="4143240"/>
            <a:ext cx="3071520" cy="1003320"/>
          </a:xfrm>
          <a:prstGeom prst="rect">
            <a:avLst/>
          </a:prstGeom>
          <a:solidFill>
            <a:srgbClr val="af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ки обучены  навыкам  работы с сай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0"/>
          <p:cNvSpPr/>
          <p:nvPr/>
        </p:nvSpPr>
        <p:spPr>
          <a:xfrm>
            <a:off x="4081320" y="3643200"/>
            <a:ext cx="3414600" cy="1255680"/>
          </a:xfrm>
          <a:prstGeom prst="rect">
            <a:avLst/>
          </a:prstGeom>
          <a:solidFill>
            <a:srgbClr val="d4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и внедрены планы – зад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ирующие  сроки разме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на сай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2"/>
          <p:cNvSpPr/>
          <p:nvPr/>
        </p:nvSpPr>
        <p:spPr>
          <a:xfrm>
            <a:off x="3934080" y="2428920"/>
            <a:ext cx="3504600" cy="1248120"/>
          </a:xfrm>
          <a:prstGeom prst="rect">
            <a:avLst/>
          </a:prstGeom>
          <a:solidFill>
            <a:srgbClr val="f3a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требования к стилю  текс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у, размеру и качест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й, фотограф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Блок-схема: узел 17"/>
          <p:cNvSpPr/>
          <p:nvPr/>
        </p:nvSpPr>
        <p:spPr>
          <a:xfrm>
            <a:off x="3000240" y="321480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Блок-схема: узел 18"/>
          <p:cNvSpPr/>
          <p:nvPr/>
        </p:nvSpPr>
        <p:spPr>
          <a:xfrm>
            <a:off x="6643800" y="307188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Блок-схема: узел 19"/>
          <p:cNvSpPr/>
          <p:nvPr/>
        </p:nvSpPr>
        <p:spPr>
          <a:xfrm>
            <a:off x="2857680" y="478620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Блок-схема: узел 20"/>
          <p:cNvSpPr/>
          <p:nvPr/>
        </p:nvSpPr>
        <p:spPr>
          <a:xfrm>
            <a:off x="6786720" y="435780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857160" y="5429160"/>
            <a:ext cx="2895840" cy="1003320"/>
          </a:xfrm>
          <a:prstGeom prst="rect">
            <a:avLst/>
          </a:prstGeom>
          <a:solidFill>
            <a:srgbClr val="d5a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размещается информация на сай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Блок-схема: узел 14"/>
          <p:cNvSpPr/>
          <p:nvPr/>
        </p:nvSpPr>
        <p:spPr>
          <a:xfrm>
            <a:off x="3214800" y="592920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5"/>
          <p:cNvSpPr/>
          <p:nvPr/>
        </p:nvSpPr>
        <p:spPr>
          <a:xfrm>
            <a:off x="2500200" y="1785960"/>
            <a:ext cx="29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6"/>
          <p:cNvSpPr/>
          <p:nvPr/>
        </p:nvSpPr>
        <p:spPr>
          <a:xfrm>
            <a:off x="4214880" y="5072040"/>
            <a:ext cx="3071880" cy="1248120"/>
          </a:xfrm>
          <a:prstGeom prst="rect">
            <a:avLst/>
          </a:prstGeom>
          <a:solidFill>
            <a:srgbClr val="af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ки обучены  навыкам  работы с текстовыми  редакторами - прием сжатия текста, рису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20" algn="just">
              <a:lnSpc>
                <a:spcPct val="115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Блок-схема: узел 21"/>
          <p:cNvSpPr/>
          <p:nvPr/>
        </p:nvSpPr>
        <p:spPr>
          <a:xfrm>
            <a:off x="6643800" y="5643720"/>
            <a:ext cx="457200" cy="457200"/>
          </a:xfrm>
          <a:prstGeom prst="flowChartConnector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394920" y="4076640"/>
            <a:ext cx="84582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90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Руководитель портфеля проектов: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90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Гончарова Валентина Николаевна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90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тел.: 847( 232) 4-61-35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90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e-mail</a:t>
            </a:r>
            <a:r>
              <a:rPr b="0" lang="ru-RU" sz="18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lubjanoe@ch.belregion.ru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ОНТАКТНЫЕ ДАННЫЕ</a:t>
            </a: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ПИСАНИЕ ПОРТФЕЛЯ ПРОЕКТОВ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285840" y="1071720"/>
          <a:ext cx="8640720" cy="5162400"/>
        </p:xfrm>
        <a:graphic>
          <a:graphicData uri="http://schemas.openxmlformats.org/drawingml/2006/table">
            <a:tbl>
              <a:tblPr/>
              <a:tblGrid>
                <a:gridCol w="4081320"/>
                <a:gridCol w="4559400"/>
              </a:tblGrid>
              <a:tr h="937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ая цель, на достижение которой направлен портфель проект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благоприятных  социально –бытовых условий проживания  населения  на территории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проектов в портфеле, 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всего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ируем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ящ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функциональных направлений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льтурно – досугов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2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привлекательности Лубянского сельского поселения для комфортного проживания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культуры бережливого управл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граничения по срока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1.01.2021- 31.12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граничения по бюджет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65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ые огранич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ПИСАНИЕ ФУНКЦИОНАЛЬНОГО НАПРАВЛЕНИЯ</a:t>
            </a:r>
            <a:endParaRPr b="0" lang="en-US" sz="27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85840" y="2786040"/>
          <a:ext cx="8642160" cy="1682640"/>
        </p:xfrm>
        <a:graphic>
          <a:graphicData uri="http://schemas.openxmlformats.org/drawingml/2006/table">
            <a:tbl>
              <a:tblPr/>
              <a:tblGrid>
                <a:gridCol w="4464000"/>
                <a:gridCol w="1214280"/>
                <a:gridCol w="1214640"/>
                <a:gridCol w="1749240"/>
              </a:tblGrid>
              <a:tr h="7963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(индикатор) портфеля про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оказателя (индикатора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ственный за достижение показателя портфеля про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посетителей культурно-досуговых мероприя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86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хорова Т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Прямоугольник 5"/>
          <p:cNvSpPr/>
          <p:nvPr/>
        </p:nvSpPr>
        <p:spPr>
          <a:xfrm>
            <a:off x="430200" y="928800"/>
            <a:ext cx="8713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6"/>
          <p:cNvSpPr/>
          <p:nvPr/>
        </p:nvSpPr>
        <p:spPr>
          <a:xfrm>
            <a:off x="510840" y="1785960"/>
            <a:ext cx="2635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ункцион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6"/>
          <p:cNvSpPr/>
          <p:nvPr/>
        </p:nvSpPr>
        <p:spPr>
          <a:xfrm>
            <a:off x="3714840" y="185724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7"/>
          <p:cNvSpPr/>
          <p:nvPr/>
        </p:nvSpPr>
        <p:spPr>
          <a:xfrm>
            <a:off x="1431000" y="1071720"/>
            <a:ext cx="61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о – досугов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"/>
          <p:cNvSpPr/>
          <p:nvPr/>
        </p:nvSpPr>
        <p:spPr>
          <a:xfrm>
            <a:off x="3295080" y="1785960"/>
            <a:ext cx="404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эффективной модели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дростками  и молодежью с уче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х интересов и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139320"/>
            <a:ext cx="88423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ЕРЕЧЕНЬ ПРОЕКТОВ ФУНКЦИОНАЛЬНОГО НАПРАВЛЕНИЯ</a:t>
            </a:r>
            <a:endParaRPr b="0" lang="en-US" sz="27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285840" y="2133720"/>
          <a:ext cx="8686800" cy="4581360"/>
        </p:xfrm>
        <a:graphic>
          <a:graphicData uri="http://schemas.openxmlformats.org/drawingml/2006/table">
            <a:tbl>
              <a:tblPr/>
              <a:tblGrid>
                <a:gridCol w="1741320"/>
                <a:gridCol w="992160"/>
                <a:gridCol w="916200"/>
                <a:gridCol w="742680"/>
                <a:gridCol w="1094040"/>
                <a:gridCol w="1224000"/>
                <a:gridCol w="987120"/>
                <a:gridCol w="989280"/>
              </a:tblGrid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ч.мм.г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иници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ся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азработку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(индикатор) портфеля проектов, на который оказывает влияние 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сокий/ средний/ низ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8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ируемый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о активной личности   подростков  и молодежи   территории Лубянского сельского поселения средствами культурно - досуговой деятельност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5.2021- 01.02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( 14- местный бюджет, 151- ЗАО Агросоюз Авида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чарова Валенти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февралю 2022 года  привлечь не менее   70 % молодежи территории       к участию  в культурно –досуговых  мероприятиях 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етителей культурно-досуг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Прямоугольник 3"/>
          <p:cNvSpPr/>
          <p:nvPr/>
        </p:nvSpPr>
        <p:spPr>
          <a:xfrm>
            <a:off x="428760" y="1071720"/>
            <a:ext cx="457200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ектов  -  2, в том чис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ированных - 1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ящих-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139320"/>
            <a:ext cx="88423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ЕРЕЧЕНЬ ПРОЕКТОВ ФУНКЦИОНАЛЬНОГО НАПРАВЛЕНИЯ</a:t>
            </a:r>
            <a:endParaRPr b="0" lang="en-US" sz="27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85840" y="1285920"/>
          <a:ext cx="8686800" cy="5222880"/>
        </p:xfrm>
        <a:graphic>
          <a:graphicData uri="http://schemas.openxmlformats.org/drawingml/2006/table">
            <a:tbl>
              <a:tblPr/>
              <a:tblGrid>
                <a:gridCol w="1741320"/>
                <a:gridCol w="992160"/>
                <a:gridCol w="916200"/>
                <a:gridCol w="742680"/>
                <a:gridCol w="1094040"/>
                <a:gridCol w="1224000"/>
                <a:gridCol w="987120"/>
                <a:gridCol w="989280"/>
              </a:tblGrid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ч.мм.г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иници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ся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азработку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(индикатор) портфеля проектов, на который оказывает влияние 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сокий/ средний/ низ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8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ящий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истемного и комплексного подхода к изучению героического исторического прошлого  у жителей  территории  Лубянского сельского поселения  «Твори добро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3.2020-01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чарова Валенти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онцу  февраля 2021 года привлечь  не менее 50% жителей  поселения к сбору материалов  об участниках  Великой  Отечественной войны и сохранению памятников  и захорон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етителей культурно-досуг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3840" y="429840"/>
            <a:ext cx="8929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РЕЗУЛЬТАТЫ И ЭФФЕКТЫ, КОТОРЫЕ ПЛАНИРУЕТСЯ  ДОСТИЧЬ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РАМКАХ  РЕАЛИЗАЦИИ ПРОЕКТА № 1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ОЦИАЛЬНО АКТИВНОЙ ЛИЧНОСТИ   ПОДРОСТКОВ  И МОЛОДЕЖИ   ТЕРРИТОРИИ ЛУБЯНСКОГО СЕЛЬСКОГО ПОСЕЛЕНИЯ СРЕДСТВАМИ КУЛЬТУРНО - ДОСУГОВОЙ ДЕЯТЕЛЬНОСТИ</a:t>
            </a:r>
            <a:r>
              <a:rPr b="1" lang="ru-RU" sz="1400" spc="-1" strike="noStrike">
                <a:solidFill>
                  <a:srgbClr val="000000"/>
                </a:solidFill>
                <a:latin typeface="Franklin Gothic Medium"/>
              </a:rPr>
              <a:t>  </a:t>
            </a:r>
            <a:br>
              <a:rPr sz="1400"/>
            </a:br>
            <a:r>
              <a:rPr b="1" lang="ru-RU" sz="13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464646"/>
                </a:solidFill>
                <a:latin typeface="Franklin Gothic Medium"/>
              </a:rPr>
              <a:t>: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ФЕВРАЛЮ    2022 ГОДА  ПРИВЛЕЧЬ НЕ МЕНЕЕ   70 % МОЛОДЕЖИ  ТЕРРИТОРИИ       К УЧАСТИЮ  В КУЛЬТУРНО –ДОСУГОВЫХ  МЕРОПРИЯТИЯХ . </a:t>
            </a:r>
            <a:endParaRPr b="0" lang="en-US" sz="11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05C5-F7E7-4C05-AE1D-16C64749CE5F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642960" y="1793160"/>
            <a:ext cx="77151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2091600"/>
            <a:ext cx="80722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ие 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о – игровые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6" descr="https://i.mycdn.me/i?r=AyH4iRPQ2q0otWIFepML2LxRIij8g15N06XPanXDxvec1Q"/>
          <p:cNvPicPr/>
          <p:nvPr/>
        </p:nvPicPr>
        <p:blipFill>
          <a:blip r:embed="rId1"/>
          <a:srcRect l="34388" t="0" r="0" b="0"/>
          <a:stretch/>
        </p:blipFill>
        <p:spPr>
          <a:xfrm>
            <a:off x="357120" y="4765680"/>
            <a:ext cx="1643040" cy="18781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C:\Users\User\Desktop\по проекту\DSC08840.JPG"/>
          <p:cNvPicPr/>
          <p:nvPr/>
        </p:nvPicPr>
        <p:blipFill>
          <a:blip r:embed="rId2"/>
          <a:stretch/>
        </p:blipFill>
        <p:spPr>
          <a:xfrm>
            <a:off x="2143080" y="4643280"/>
            <a:ext cx="1662120" cy="1106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3" descr="C:\Users\User\Desktop\по проекту\image (24).jpg"/>
          <p:cNvPicPr/>
          <p:nvPr/>
        </p:nvPicPr>
        <p:blipFill>
          <a:blip r:embed="rId3"/>
          <a:stretch/>
        </p:blipFill>
        <p:spPr>
          <a:xfrm>
            <a:off x="4143240" y="457200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C:\Users\User\Desktop\по проекту\P1040573.JPG"/>
          <p:cNvPicPr/>
          <p:nvPr/>
        </p:nvPicPr>
        <p:blipFill>
          <a:blip r:embed="rId4"/>
          <a:stretch/>
        </p:blipFill>
        <p:spPr>
          <a:xfrm>
            <a:off x="2357280" y="5840280"/>
            <a:ext cx="1214640" cy="9115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5" descr="C:\Users\User\Desktop\по проекту\футбол(18).jpg"/>
          <p:cNvPicPr/>
          <p:nvPr/>
        </p:nvPicPr>
        <p:blipFill>
          <a:blip r:embed="rId5"/>
          <a:stretch/>
        </p:blipFill>
        <p:spPr>
          <a:xfrm>
            <a:off x="4214880" y="571500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8" descr="C:\Users\User\Desktop\по проекту\DSC00923.JPG"/>
          <p:cNvPicPr/>
          <p:nvPr/>
        </p:nvPicPr>
        <p:blipFill>
          <a:blip r:embed="rId6"/>
          <a:stretch/>
        </p:blipFill>
        <p:spPr>
          <a:xfrm>
            <a:off x="6072120" y="257184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9" descr="C:\Users\User\Desktop\по проекту\DSC04920.JPG"/>
          <p:cNvPicPr/>
          <p:nvPr/>
        </p:nvPicPr>
        <p:blipFill>
          <a:blip r:embed="rId7"/>
          <a:stretch/>
        </p:blipFill>
        <p:spPr>
          <a:xfrm>
            <a:off x="2857680" y="2286000"/>
            <a:ext cx="1643040" cy="971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0" descr="C:\Users\User\Desktop\по проекту\автопробег1.jpg"/>
          <p:cNvPicPr/>
          <p:nvPr/>
        </p:nvPicPr>
        <p:blipFill>
          <a:blip r:embed="rId8"/>
          <a:stretch/>
        </p:blipFill>
        <p:spPr>
          <a:xfrm>
            <a:off x="4071960" y="3286080"/>
            <a:ext cx="1650960" cy="9288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1" descr="C:\Users\User\Desktop\фотографии\для Манаева\image (4).jpg"/>
          <p:cNvPicPr/>
          <p:nvPr/>
        </p:nvPicPr>
        <p:blipFill>
          <a:blip r:embed="rId9"/>
          <a:stretch/>
        </p:blipFill>
        <p:spPr>
          <a:xfrm>
            <a:off x="357120" y="2571840"/>
            <a:ext cx="1952640" cy="14637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5"/>
          <p:cNvSpPr/>
          <p:nvPr/>
        </p:nvSpPr>
        <p:spPr>
          <a:xfrm>
            <a:off x="5919480" y="4429080"/>
            <a:ext cx="233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в волонтерск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6" descr="C:\Users\User\Desktop\20210201_145514.jpg"/>
          <p:cNvPicPr/>
          <p:nvPr/>
        </p:nvPicPr>
        <p:blipFill>
          <a:blip r:embed="rId10"/>
          <a:stretch/>
        </p:blipFill>
        <p:spPr>
          <a:xfrm>
            <a:off x="6072120" y="5357880"/>
            <a:ext cx="522360" cy="928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7" descr="C:\Users\User\Desktop\IMG_6358.jpg"/>
          <p:cNvPicPr/>
          <p:nvPr/>
        </p:nvPicPr>
        <p:blipFill>
          <a:blip r:embed="rId11"/>
          <a:stretch/>
        </p:blipFill>
        <p:spPr>
          <a:xfrm>
            <a:off x="6899400" y="5143680"/>
            <a:ext cx="1815840" cy="12855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17"/>
          <p:cNvSpPr/>
          <p:nvPr/>
        </p:nvSpPr>
        <p:spPr>
          <a:xfrm>
            <a:off x="1000080" y="1857240"/>
            <a:ext cx="6862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 проекта 04.05.2021- 01.02.2022.  Бюджет - 165( 14- местный бюджет, 151- ЗАО «Агросоюз Ав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8" descr="http://prospect-pro.ru/image/cache/data/A%20IKSG/ograjdenie/3b6-900x900.jpeg"/>
          <p:cNvPicPr/>
          <p:nvPr/>
        </p:nvPicPr>
        <p:blipFill>
          <a:blip r:embed="rId1"/>
          <a:stretch/>
        </p:blipFill>
        <p:spPr>
          <a:xfrm>
            <a:off x="285840" y="5643720"/>
            <a:ext cx="1058760" cy="10587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3840" y="429840"/>
            <a:ext cx="8929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РЕЗУЛЬТАТЫ И ЭФФЕКТЫ, КОТОРЫЕ ПЛАНИРУЕТСЯ  ДОСТИЧЬ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РАМКАХ  РЕАЛИЗАЦИИ ПРОЕКТА № 1</a:t>
            </a:r>
            <a:br>
              <a:rPr sz="1400"/>
            </a:br>
            <a:r>
              <a:rPr b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ОЦИАЛЬНО АКТИВНОЙ ЛИЧНОСТИ   ПОДРОСТКОВ  И МОЛОДЕЖИ   ТЕРРИТОРИИ ЛУБЯНСКОГО СЕЛЬСКОГО ПОСЕЛЕНИЯ СРЕДСТВАМ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О - ДОСУГОВОЙ ДЕЯТЕЛЬНОСТИ </a:t>
            </a:r>
            <a:br>
              <a:rPr sz="1400"/>
            </a:br>
            <a:r>
              <a:rPr b="1" lang="ru-RU" sz="1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4" name="Номер слайда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741C-EFE8-447F-902D-957069804451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642960" y="1793160"/>
            <a:ext cx="77151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357120" y="1788840"/>
            <a:ext cx="807264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ы, развивающие занят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 и викторин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оприятия по благоустройству территор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ждение детской площадки по улице Школьн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дополнительного обору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онт игрового обору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аска игрового  обору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3" descr="C:\Users\User\Desktop\фотографии\клуб\P1020230.JPG"/>
          <p:cNvPicPr/>
          <p:nvPr/>
        </p:nvPicPr>
        <p:blipFill>
          <a:blip r:embed="rId2"/>
          <a:stretch/>
        </p:blipFill>
        <p:spPr>
          <a:xfrm>
            <a:off x="4500720" y="22860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C:\Users\User\Desktop\фотографии\в контакте\для контакта1\исполнено\для конт\DSC06205.JPG"/>
          <p:cNvPicPr/>
          <p:nvPr/>
        </p:nvPicPr>
        <p:blipFill>
          <a:blip r:embed="rId3"/>
          <a:stretch/>
        </p:blipFill>
        <p:spPr>
          <a:xfrm>
            <a:off x="357120" y="2417760"/>
            <a:ext cx="1143000" cy="7970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2" descr="https://city-yaroslavl.ru/upload/iblock/c34/3fc81eee_695e_44d5_abac_b59c6519dd7e.jpg"/>
          <p:cNvPicPr/>
          <p:nvPr/>
        </p:nvPicPr>
        <p:blipFill>
          <a:blip r:embed="rId4"/>
          <a:stretch/>
        </p:blipFill>
        <p:spPr>
          <a:xfrm>
            <a:off x="3143160" y="557208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https://chastnik.ru/upload/iblock/6dc/6dc6eb5ef053b8bbc94ba42778e62647.jpg"/>
          <p:cNvPicPr/>
          <p:nvPr/>
        </p:nvPicPr>
        <p:blipFill>
          <a:blip r:embed="rId5"/>
          <a:srcRect l="46725" t="0" r="0" b="0"/>
          <a:stretch/>
        </p:blipFill>
        <p:spPr>
          <a:xfrm>
            <a:off x="1714680" y="5286240"/>
            <a:ext cx="1071360" cy="13478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3" descr="C:\Users\User\Desktop\по проекту\DSC04445.JPG"/>
          <p:cNvPicPr/>
          <p:nvPr/>
        </p:nvPicPr>
        <p:blipFill>
          <a:blip r:embed="rId6"/>
          <a:srcRect l="0" t="0" r="9176" b="29228"/>
          <a:stretch/>
        </p:blipFill>
        <p:spPr>
          <a:xfrm>
            <a:off x="571680" y="3429000"/>
            <a:ext cx="1461960" cy="6764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4" descr="C:\Users\User\Desktop\по проекту\i (4).jpg"/>
          <p:cNvPicPr/>
          <p:nvPr/>
        </p:nvPicPr>
        <p:blipFill>
          <a:blip r:embed="rId7"/>
          <a:stretch/>
        </p:blipFill>
        <p:spPr>
          <a:xfrm>
            <a:off x="6643800" y="2143080"/>
            <a:ext cx="1857240" cy="1236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5" descr="C:\Users\User\Desktop\по проекту\P1000048.JPG"/>
          <p:cNvPicPr/>
          <p:nvPr/>
        </p:nvPicPr>
        <p:blipFill>
          <a:blip r:embed="rId8"/>
          <a:stretch/>
        </p:blipFill>
        <p:spPr>
          <a:xfrm>
            <a:off x="2286000" y="235728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15"/>
          <p:cNvSpPr/>
          <p:nvPr/>
        </p:nvSpPr>
        <p:spPr>
          <a:xfrm>
            <a:off x="5288400" y="4214880"/>
            <a:ext cx="15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гр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3" descr="C:\Users\User\Desktop\фотографии\65 добрых дел\блок работа с населением\image (39).jpg"/>
          <p:cNvPicPr/>
          <p:nvPr/>
        </p:nvPicPr>
        <p:blipFill>
          <a:blip r:embed="rId9"/>
          <a:stretch/>
        </p:blipFill>
        <p:spPr>
          <a:xfrm>
            <a:off x="7000920" y="3857760"/>
            <a:ext cx="1676520" cy="1116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C:\Users\User\Desktop\по проекту\image (14).jpg"/>
          <p:cNvPicPr/>
          <p:nvPr/>
        </p:nvPicPr>
        <p:blipFill>
          <a:blip r:embed="rId10"/>
          <a:srcRect l="48219" t="0" r="0" b="0"/>
          <a:stretch/>
        </p:blipFill>
        <p:spPr>
          <a:xfrm>
            <a:off x="5429160" y="5000760"/>
            <a:ext cx="1214640" cy="1560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C:\Users\User\Desktop\по проекту\image (8).jpg"/>
          <p:cNvPicPr/>
          <p:nvPr/>
        </p:nvPicPr>
        <p:blipFill>
          <a:blip r:embed="rId11"/>
          <a:stretch/>
        </p:blipFill>
        <p:spPr>
          <a:xfrm>
            <a:off x="7215120" y="5286240"/>
            <a:ext cx="1643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ПИСАНИЕ ФУНКЦИОНАЛЬНОГО НАПРАВЛЕНИЯ</a:t>
            </a:r>
            <a:endParaRPr b="0" lang="en-US" sz="27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85840" y="2786040"/>
          <a:ext cx="8642160" cy="1666800"/>
        </p:xfrm>
        <a:graphic>
          <a:graphicData uri="http://schemas.openxmlformats.org/drawingml/2006/table">
            <a:tbl>
              <a:tblPr/>
              <a:tblGrid>
                <a:gridCol w="4464000"/>
                <a:gridCol w="1214280"/>
                <a:gridCol w="1214640"/>
                <a:gridCol w="1749240"/>
              </a:tblGrid>
              <a:tr h="7963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(индикатор) портфеля про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оказателя (индикатора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ственный за достижение показателя портфеля про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отдыхающих в местах отдыха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86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хорова Т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0" name="Прямоугольник 5"/>
          <p:cNvSpPr/>
          <p:nvPr/>
        </p:nvSpPr>
        <p:spPr>
          <a:xfrm>
            <a:off x="250920" y="1125360"/>
            <a:ext cx="8713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ивлекательности сельской местности для комфортного  проживания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510840" y="1785960"/>
            <a:ext cx="2635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ункцион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6"/>
          <p:cNvSpPr/>
          <p:nvPr/>
        </p:nvSpPr>
        <p:spPr>
          <a:xfrm>
            <a:off x="3714840" y="185724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организации благоустрой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Лубянского сельского посел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139320"/>
            <a:ext cx="88423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ЕРЕЧЕНЬ ПРОЕКТОВ ФУНКЦИОНАЛЬНОГО НАПРАВЛЕНИЯ</a:t>
            </a:r>
            <a:endParaRPr b="0" lang="en-US" sz="27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42920" y="2006640"/>
          <a:ext cx="8758080" cy="3941640"/>
        </p:xfrm>
        <a:graphic>
          <a:graphicData uri="http://schemas.openxmlformats.org/drawingml/2006/table">
            <a:tbl>
              <a:tblPr/>
              <a:tblGrid>
                <a:gridCol w="1812960"/>
                <a:gridCol w="992160"/>
                <a:gridCol w="915840"/>
                <a:gridCol w="743040"/>
                <a:gridCol w="1093680"/>
                <a:gridCol w="1224000"/>
                <a:gridCol w="987480"/>
                <a:gridCol w="988920"/>
              </a:tblGrid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ч.мм.г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иници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ся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за разработку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(индикатор) портфеля проектов, на который оказывает влияние 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сокий/ средний/ низ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8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ящий 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8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 жителей Лубянской сельской территории  к самостоятельному благоустройству улиц,  развитие личной инициативы  селя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Ландшафтный дизайнер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4.2020-01.06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/(3,5  средства  бюджета, 8-средства собственник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чарова Валенти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ь не менее   40 % жителей территории к самостоятельному благоустройству улиц к июню 202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отдыхающих в местах отды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5" name="Прямоугольник 3"/>
          <p:cNvSpPr/>
          <p:nvPr/>
        </p:nvSpPr>
        <p:spPr>
          <a:xfrm>
            <a:off x="395280" y="941400"/>
            <a:ext cx="45720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ектов  -  1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ированных - 0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ящих-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User</cp:lastModifiedBy>
  <cp:lastPrinted>2017-05-12T08:21:43Z</cp:lastPrinted>
  <dcterms:modified xsi:type="dcterms:W3CDTF">2021-12-10T06:17:44Z</dcterms:modified>
  <cp:revision>975</cp:revision>
  <dc:subject/>
  <dc:title>Слайд 1</dc:title>
</cp:coreProperties>
</file>